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621-C2B7-4C5B-AE8B-19F27DA9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E80-CE84-4425-8AD2-2739D3F4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CEE-76E2-4F40-A07E-47116EB8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26A-17BF-45A9-80EF-EFFE167F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F40-9D86-4A21-8860-66F5DE1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D50-2FE3-4F51-BC39-0F53E6E7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CD9-A55A-4076-A2EE-7C60F8A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C00-C6A4-45FB-A929-03B2AEE8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325-3F90-411F-A86D-562F7C7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F25-E3FC-4B8D-B128-EC23C38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920-6670-4AF2-950D-F37D89E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A3C-9117-4F4D-A954-4C4312D3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9F61-FC05-4714-B9DF-ABC578CD33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hyperlink" Target="file:///&#30446;&#24405;.ppt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章   文档和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981080"/>
            <a:ext cx="66294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摘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通过视类与用户交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通过视类与用户交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16400" y="6095880"/>
            <a:ext cx="60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目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2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文档类处理数据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文档类中保存数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39720" y="609588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添加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1676520"/>
            <a:ext cx="594360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ass CLine : public CObjec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Sta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(CPoint pt1, CPoint pt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irtual ~CLi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Draw(CDC *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2280"/>
            <a:ext cx="731520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C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CLine(CPoint pt1, CPoint pt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.x = pt1.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.y = pt1.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End.x = pt2.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End.y = pt2.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::~CLi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Line::Draw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MoveTo(m_ptSta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LineTo(m_ptEn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在文档类中添加保存数据的变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676520"/>
            <a:ext cx="5943600" cy="14486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  m_strLast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List   m_str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trList   m_Line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视类成员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ButtonUp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nCha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360"/>
            <a:ext cx="8763120" cy="64508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LButtonUp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pCursor( NULL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LineTo( m_ptOld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SetROP2( R2_COPYPEN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LineTo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DocViewDoc *pDoc = GetDocument();       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得到文档类指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Line *pLine = new CLine(m_ptStart,point);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创建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Line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LineList.AddTail( (void *) pLine);    //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将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Line</a:t>
            </a: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加入到链表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etCursor(m_hArrow);    /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设置鼠标形状为标准箭头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3760"/>
            <a:ext cx="8839440" cy="67896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Char(UINT nChar, UINT nRepCnt, UINT nFlag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CDocViewDoc *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(nChar == VK_RETU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ist.AddTail(m_strDispla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astLine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strDisplay.Empt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nLin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lse if(m_strDisplay.GetLength() &lt; 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_strDisplay += nCha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pDoc-&gt;m_strLastLine = m_strDispl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GetTextMetrics(&amp;tm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c.TextOut(0, m_nLine * nLineHeight, m_strDispla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View::OnChar(nChar, nRepCnt, nFlag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76520"/>
            <a:ext cx="7696440" cy="3671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Doc::DrawLine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ne *pLi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Line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; pos != NULL; m_LineList.GetNext(po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Line = (CLine *) m_LineList.Get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Line-&gt;Draw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文档类中添加重画直线和重写文本的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23888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Doc::DrawText(CDC *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GetTextMetrics(&amp;t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st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li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SITION pos = m_strList.GetHeadPosi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for( ; pos != NULL; m_strList.GetNext(pos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tr = m_strList.GetAt(p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 0, line*nLineHeight, str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in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C-&gt;TextOut( 0, line*nLineHeight, m_strLastLin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676520"/>
            <a:ext cx="678204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Draw(CDC* pD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Doc* pDoc = GetDocume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ASSERT_VALID(pDo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draw code for native data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oc-&gt;DrawLine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Doc-&gt;DrawText(pD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修改视类成员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nDraw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17480" y="640080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视类与用户交互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程序中响应鼠标消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程序中响应键盘消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9720" y="6095880"/>
            <a:ext cx="709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第2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pp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成单文档程序框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ocView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视类添加数据成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20960"/>
            <a:ext cx="5486400" cy="18190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BOOL  m_bMouseDown;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识鼠标左键是否按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CURSOR  m_hCross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十字型鼠标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CURSOR  m_hArrow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标准型鼠标句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Old;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Point m_ptStart;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画线的起始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809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成员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373640"/>
            <a:ext cx="7238880" cy="21895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View::CDocVie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Cross = AfxGetApp()-&gt;LoadStandardCursor(IDC_CRO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Arrow = AfxGetApp()-&gt;LoadStandardCursor(IDC_AR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066680"/>
            <a:ext cx="8001000" cy="5153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 OnLButtonDown 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true;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鼠标左键按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Start = point;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画线的起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Old = point;  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临时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apture();          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鼠标消息发送到视窗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Rect rec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GetClientRect(&amp;rect);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得到客户窗口的大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entToScreen(&amp;rect);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当前窗口坐标转换成屏幕坐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pCursor(&amp;rect);               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把鼠标限定在其参数指定的矩形区域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ursor(m_hCross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鼠标形状为十字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Down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鼠标动作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762120"/>
            <a:ext cx="8763120" cy="5523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DrawView::OnMouseMove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your message handler code here and/or call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擦除从起点（鼠标按下点）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m_ptOld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次鼠标移动到的位置之间的临时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从起点到鼠标当前位置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point );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ptOld = point;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鼠标当前位置在下一次鼠标移动事件看来就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旧位置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MouseMove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鼠标动作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52280"/>
            <a:ext cx="8763120" cy="66348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MyDrawView::OnLButtonUp(UINT nFlags, CPoint poin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 m_bMouseDow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leaseCaptur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lipCursor( NUL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NO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擦除从起点（鼠标按下点）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m_ptOld 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上次鼠标移动到的位置之间的临时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SetROP2( R2_COPYPEN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MoveTo( m_ptStart );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这两行代码从起点到鼠标当前位置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LineTo( point );                /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SetCursor(m_hArrow);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设置鼠标形状为标准箭头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LButtonUp(nFlags, poi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实现步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数据成员为视类添加数据成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295280"/>
            <a:ext cx="54864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m_nLine;                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记录已输入字符行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String m_strDisplay;    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保存当前字符串的变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362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构造函数中初始化成员变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124080"/>
            <a:ext cx="7238880" cy="29304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DocViewView::CDocViewView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// TODO: add construction co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m_nLin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bMouseDown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Cross = AfxGetApp()-&gt;LoadStandardCursor(IDC_CRO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hArrow = AfxGetApp()-&gt;LoadStandardCursor(IDC_ARRO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为视类添加键盘消息响应函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644400"/>
            <a:ext cx="8382240" cy="58939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void CDocViewView::OnChar(UINT nChar, UINT nRepCnt, UINT nFlag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f(nChar == VK_RETURN) 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如果按下回车键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Display.Empt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nLine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else if(m_strDisplay.GetLength() &lt; 64)   /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当前行字符数小于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m_strDisplay += nCh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ClientDC dc(thi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TEXTMETRIC t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GetTextMetrics(&amp;t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t nLineHeight = tm.tmHeight + tm.tmExternalLeadi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dc.TextOut(0, m_nLine * nLineHeight, m_strDispla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View::OnChar(nChar, nRepCnt, nFlag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基本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xGetApp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adStandardCursor(IDC_CROS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GetClientRect(&amp;rect);      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到客户窗口的大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ClientToScreen(&amp;rect);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当前窗口坐标转换成屏幕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ClipCursor(&amp;rect);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鼠标限定在其参数指定的矩形区域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SetCursor(m_hCross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置鼠标形状为十字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80600" y="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8:31:54Z</dcterms:created>
  <dc:creator>YangGuoxing</dc:creator>
  <dc:description/>
  <dc:language>en-US</dc:language>
  <cp:lastModifiedBy>YangGuoxing</cp:lastModifiedBy>
  <dcterms:modified xsi:type="dcterms:W3CDTF">2001-08-27T01:26:47Z</dcterms:modified>
  <cp:revision>103</cp:revision>
  <dc:subject/>
  <dc:title>第四章   菜单、快捷键和控制条 </dc:title>
</cp:coreProperties>
</file>